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7E86-1F84-44AB-BD1D-AA682F501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B24-C78E-4AB6-A892-C06C63225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9E5F-D125-4F5A-ABAB-99AA8F54C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CEA-25B6-4B63-BB0A-F5A84CA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051-092B-4A7A-AC67-51E8DB2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D11-D2AB-45B5-965F-F2440E9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C06-9CCD-4042-86C9-5E39BCF5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C11-1227-4F6F-88F3-4CFF1D9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BF6-FD7D-40D7-8F80-3C03C07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3B9-A467-4D63-A921-6E801ED2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0CE-0EE2-426D-B28A-F1281FA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6AC-98BA-4833-BCFD-756163F5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E1E-A2BF-4542-B64A-AA105AB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5FB-B034-44E1-9776-D1E28E9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D2C-0E11-44F7-93AA-78827C2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279-EA18-47CC-A66F-5613E1E01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C398-8F6C-4BB2-B388-C384ED429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ymag.com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UTOMATIC ENERGY EFFICIENT EMERGENCY LAMP USING PULSE WIDTH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AF3-3268-4851-9BF6-016BC8F73A11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E86-164A-490A-B065-A0A0D6D4F9B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380880" y="263520"/>
            <a:ext cx="86108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. Components are easily available and low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switches ON when the mains fails and turns OFF when mains power resumes. Also has its own battery charger which when fully charged stops charging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our lives simpler , convenient to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ono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sumption is very less , proves to be more economic for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light per watt than incandescent bu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emit of an intended color without use of color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/off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ght up very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c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subjected to frequent on-off 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dimmed by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DC8-5E4D-43A6-98EF-6E818FFA5C0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AE9-ED79-4CB3-8211-4CBC04C2214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76212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stly fail by dimming over time, rather than abrupt burn-out of incandescent bu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ng useful lif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Ds do not contain mercury, unlike fluorescent l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ly more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e 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formance largely depends on the operating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lth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ol white LEDs can cause problems to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0B3-A3F7-4C9D-92D1-593A95E5582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0880" y="5335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was concluded to be  innovative for the improvement of day today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lso adds a new look to the traditional l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WM helps us to reduce the wastage of energ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implementing this circuit is also very less - an added advantage in using this circu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A6F-FD91-42C9-8AF9-AE7CA136EFA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gain modernize this project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expected that with additional development and growing researches, the PWM will gain more popularity and the cost of these bulbs will eventually dec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roject can be adopted for mass production as cheap and efficien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85D-2C7E-48D5-BF91-CDD30BCC585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EB70-EC79-415D-A907-41B5D40C5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AB9-E31E-4239-8790-C1A315DD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My Documents\My Pictures\20100701\01072010116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akwad R.A.,OPAMPS &amp; Linear Integrated circuits, Prentice hall of In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 man J.,Microelectronics c Graw H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B Gupta.,Electronic devices and circuits, katson educational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efymag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wikipedia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DAB5-23D4-45AD-9409-18CB773C12C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TIVE STUDY OF CIRCUIT WITH AND WITHOUT PW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8EF6-9D5E-4C40-8D56-99CF31D216E0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demand for the saving of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in power supply causes difficulty and in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omatic emergency lamp that uses L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bright due to use of white L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s on when mains supply fails ,turns off when power resu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own battery charger –stops  charging automatically when ful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ject aims to develop most power efficient and user friendly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9FB-2D68-407B-B63B-9747DA2EAFAC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ower consumption by using a low-cost, automatic white LED based emergency lamp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6E0-F303-409B-A10A-EA7D0085E8A9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248-D76D-4797-A58E-36944983C834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182880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44956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886200" y="4495680"/>
            <a:ext cx="19051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DGE RECTIFIE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477120" y="449568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GULATION USING LM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838080" y="1828800"/>
            <a:ext cx="21337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962520" y="1828800"/>
            <a:ext cx="19047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WM USING ASTABLE OPERATION OF 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2"/>
          <p:cNvSpPr/>
          <p:nvPr/>
        </p:nvSpPr>
        <p:spPr>
          <a:xfrm>
            <a:off x="3124080" y="5029200"/>
            <a:ext cx="762120" cy="380880"/>
          </a:xfrm>
          <a:prstGeom prst="rightArrow">
            <a:avLst>
              <a:gd name="adj1" fmla="val 63796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3"/>
          <p:cNvSpPr/>
          <p:nvPr/>
        </p:nvSpPr>
        <p:spPr>
          <a:xfrm>
            <a:off x="5791320" y="5029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4"/>
          <p:cNvSpPr/>
          <p:nvPr/>
        </p:nvSpPr>
        <p:spPr>
          <a:xfrm>
            <a:off x="7162920" y="3200400"/>
            <a:ext cx="457200" cy="129528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eft Arrow 15"/>
          <p:cNvSpPr/>
          <p:nvPr/>
        </p:nvSpPr>
        <p:spPr>
          <a:xfrm>
            <a:off x="5867280" y="2362320"/>
            <a:ext cx="6858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Arrow 16"/>
          <p:cNvSpPr/>
          <p:nvPr/>
        </p:nvSpPr>
        <p:spPr>
          <a:xfrm>
            <a:off x="2971800" y="22860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413D-FF36-401B-B290-79437219283E}" type="slidenum">
              <a:rPr b="1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kt 22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1" marL="12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rcuit has three section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r power supply section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: steps down(9V,500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rectifier: rectifies transformer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317: voltage reg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: provides supply when mains f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er diode: conducts when battery crosses its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08660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7057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3F4B-CDFB-4ED1-87E0-0EE3B68DA62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 timer 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LED section by PW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driver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round BD 1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white LEDs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section glows when mains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to blink using astable operation of 5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fulltime ON due to persistence of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out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3962520"/>
          <a:ext cx="3733560" cy="2590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LED = 2.74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LED = 2.5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6.85 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822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23920" y="609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2" descr="ckt 22.png"/>
          <p:cNvPicPr/>
          <p:nvPr/>
        </p:nvPicPr>
        <p:blipFill>
          <a:blip r:embed="rId1"/>
          <a:stretch/>
        </p:blipFill>
        <p:spPr>
          <a:xfrm>
            <a:off x="4800600" y="1371600"/>
            <a:ext cx="38862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2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C753-7A54-4736-B3A5-C507F1F7ACB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ed-emergency.jp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3962520"/>
          <a:ext cx="3981600" cy="261144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 LED  = 2.96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 LED  = 2.7 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7.992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95904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1:15:37Z</dcterms:created>
  <dc:creator/>
  <dc:description>Electrical Projects</dc:description>
  <dc:language>en-US</dc:language>
  <cp:lastModifiedBy>Brigade</cp:lastModifiedBy>
  <dcterms:modified xsi:type="dcterms:W3CDTF">2011-08-24T20:07:47Z</dcterms:modified>
  <cp:revision>0</cp:revision>
  <dc:subject>Electrical Projects</dc:subject>
  <dc:title>EEE IEEE Projects</dc:title>
</cp:coreProperties>
</file>